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29CE-45B0-4B53-BD00-80310374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3596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889F-D3F2-4DB2-BE06-88834D29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2864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3596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3596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224-4A74-4D20-B672-47F49D5B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2864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2864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3596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3596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3596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E27-0E9C-4808-B783-51CA6DA2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DD36-CC50-4BD2-A3FE-3082DA13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1B1D-7903-40BC-B672-78CE2982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2864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79F6-FD2B-471D-AE04-D036E48B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53EF-7C27-442C-90BD-DF028D0D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142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72CB-A1FF-4145-B372-15597117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2864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3596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8C92-325A-469B-807D-5AFCC717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2864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3596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730-2B83-41E9-937B-582A3BB3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2864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3596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0B5-A161-48A2-A187-FB6AB3C1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181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anuar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20, 200</a:t>
            </a: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248520"/>
            <a:ext cx="5181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160" y="624852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9D52-9451-472E-8602-B27D0A73B352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ree.celinuxforum.org/CelfPubWiki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ree.celinuxforum.org/CelfPubWiki/FrontPage" TargetMode="External"/><Relationship Id="rId3" Type="http://schemas.openxmlformats.org/officeDocument/2006/relationships/hyperlink" Target="http://tree.celinuxforum.org/CelfPubWiki/FrontPage" TargetMode="External"/><Relationship Id="rId4" Type="http://schemas.openxmlformats.org/officeDocument/2006/relationships/hyperlink" Target="http://tree.celinuxforum.org/CelfPubWiki/FrontPage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ELF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Tim 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ony Electr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E Linux Forum Architecture Group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CELF Mailing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Arial"/>
                <a:ea typeface="굴림"/>
              </a:rPr>
              <a:t>celinux-dev@tree.celinuxforum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Arial"/>
                <a:ea typeface="굴림"/>
              </a:rPr>
              <a:t>Go to web site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subscripti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Arial"/>
                <a:ea typeface="굴림"/>
              </a:rPr>
              <a:t>Please announce projects and results the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ELF Co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CELF Regional Jamborees - every 2 months in 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CELF Embedded Linux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Ottawa Linux Sympos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CELF Embedded Linux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Worldwide conference, in San Jose, April 11 and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Lots of great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ootu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str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ow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al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ots, lots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Great spe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Greg Kroah Hartman will be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Greg is USB maintainer, developer of new Linux Driv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CELF Embedded Linux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Arial"/>
                <a:ea typeface="굴림"/>
              </a:rPr>
              <a:t>New web site coming very s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Arial"/>
                <a:ea typeface="굴림"/>
              </a:rPr>
              <a:t>Call for papers already iss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Proposals due by February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Arial"/>
                <a:ea typeface="굴림"/>
              </a:rPr>
              <a:t>Almost every presentation given today would make a great session at the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Arial"/>
                <a:ea typeface="굴림"/>
              </a:rPr>
              <a:t>Also having demos and BO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What is a BOF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BOF =“ Birds Of a Feather”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Group of people who are interested in the sam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Informal meeting for fre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Some proposed BOFs for April confer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Bootup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Kernel Tra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Realtime performance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Building a Linux Test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Conference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Location: Network Meeting Center, Santa C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Right next to Santa Clara Convention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Web page - new page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iki p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http://tree.celinuxforum.org/CelfPubWik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EmbeddedLinuxConference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st: $200 professional, $40 hobby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Ottawa Linux Sympos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ELF is a sponsor every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We hold an embedded Linux B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We submit proposals, and have presented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urrently plan to submit at least 5 proposals fo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ncourage others to participate, and to submit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Deadline is Februar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Plea for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Several presentations made today would be great candidate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ELF Embedded Linux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Ottawa Linux Sympo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Please come to share and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eep working on improvements to 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Let others know what you’re doing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We need volunteers to assist with translating Jamboree materials to Eng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Recommend working in pairs - one Japanese speaker and one native- English spe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Maybe forum can provide translator “matching”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Thank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CELF Super-quick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Community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CELF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CELF Con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Ottawa Linux Sympos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CELF Super-quick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CELF Mission: improve Linux for use in CE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We find areas where Linux can be improved for CE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Then we fix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CELF Super-quick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굴림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 find areas where Linux can be improved for CE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Then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굴림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 fix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By “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굴림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”, I mean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CELF Super-quick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굴림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 find areas where Linux can be improved for CE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Then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굴림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 fix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By “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굴림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”, I mean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What does CELF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Arial"/>
                <a:ea typeface="굴림"/>
              </a:rPr>
              <a:t>CELF’s Main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4797360"/>
            <a:ext cx="540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2349360"/>
            <a:ext cx="7201080" cy="30974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LF tries to help build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unity effect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embedded linux developers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Community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Arial"/>
                <a:ea typeface="굴림"/>
              </a:rPr>
              <a:t>Open Source is built on communication and “community effec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Arial"/>
                <a:ea typeface="굴림"/>
              </a:rPr>
              <a:t>Open Source system multiplies your eff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CELF Public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Mailing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Con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Test Lab (coming so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CELF 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Arial"/>
                <a:ea typeface="굴림"/>
              </a:rPr>
              <a:t>CELF maintains a wiki 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33cc"/>
                </a:solidFill>
                <a:uFillTx/>
                <a:latin typeface="Arial"/>
                <a:ea typeface="굴림"/>
                <a:hlinkClick r:id="rId2"/>
              </a:rPr>
              <a:t>http://tree.celinuxforum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33cc"/>
                </a:solidFill>
                <a:uFillTx/>
                <a:latin typeface="Arial"/>
                <a:ea typeface="굴림"/>
                <a:hlinkClick r:id="rId3"/>
              </a:rPr>
              <a:t>CelfPubWiki</a:t>
            </a:r>
            <a:r>
              <a:rPr b="0" lang="ko-KR" sz="2800" spc="-1" strike="noStrike" u="sng">
                <a:solidFill>
                  <a:srgbClr val="0033cc"/>
                </a:solidFill>
                <a:uFillTx/>
                <a:latin typeface="Arial"/>
                <a:ea typeface="굴림"/>
                <a:hlinkClick r:id="rId4"/>
              </a:rPr>
              <a:t>/Front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Want to keep information about technology areas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Can hold original information, or just link to existing project or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Trying to keep member project list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Please put your project information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0:58:32Z</dcterms:created>
  <dc:creator>bpark1</dc:creator>
  <dc:description/>
  <dc:language>en-US</dc:language>
  <cp:lastModifiedBy>Tim Bird</cp:lastModifiedBy>
  <dcterms:modified xsi:type="dcterms:W3CDTF">2006-01-20T11:20:07Z</dcterms:modified>
  <cp:revision>26</cp:revision>
  <dc:subject/>
  <dc:title>DTVWG Progress Reports</dc:title>
</cp:coreProperties>
</file>